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D07-BAC2-459D-BA7A-2C8EB68F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E7A-C463-4B43-BB84-ABCF75D2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646-207F-4EB4-8206-DC671A13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DB4-49F7-4E14-846B-F8F6AC30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2FEA-0346-459C-8978-52935A3D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A3C0-1169-4B46-B5FD-0A9912DC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568F-05DF-42EB-9FA5-D2C79E56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237B-CF66-435E-B2D7-48058B86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9A64-AE23-481B-86CD-87F0FAA2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D5D-C711-45AC-915E-6D9EC042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E253-E55F-40DB-90E4-87C9006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300-7254-41C1-A0CC-5FBD92F5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6028-2140-40EC-9DD9-6305E0A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4D7F-82BF-4DB0-83D5-824D261F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3333-E38A-4B9E-80F9-E8B92210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356A-F5FC-479B-90E2-3884FA4C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6949-D179-49DD-B37E-137EBCE8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2FE-F360-42C0-A2B4-7517ED0B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728-BF43-4F33-977E-26A5B9C4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842-B8ED-455E-8615-C6E9FF2A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D5E-9287-489B-8003-DA1471C4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BA9-165F-4CAF-8922-C7279C9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4C7-586B-458D-93C6-93C86F7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A65-7DA4-4481-ACBA-C9B8D23F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DAC4-4DD0-4A49-AAD6-B8CFF32096EA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5F66-C022-43B7-9D63-05BADF9F8141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Go Tell The Good News – Part 1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Quarter 11, Lesson 18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Acts 17:10-34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Pages 101-105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Paul and Silas Go To Berea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6472080" cy="537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4320" y="1676520"/>
            <a:ext cx="1752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Berea is Point 16 on the Second Missionary Journey of Paul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905120"/>
            <a:ext cx="60948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In Berea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We Find A Contrast With The Previous Experience at Thessalonica – Acts 17:10-15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re is Opennes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re is Eager Listening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re is Honest Research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Converts To Christ Result From Honest Investigation Into The Evidence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Jews From Thessalonica Come To Stir A Riot – 17:13-15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Paul In Athen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6472080" cy="5373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34320" y="152388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From Berea (point 16) Paul Goes Alone To Athens (point 17 On the Map)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048120"/>
            <a:ext cx="76212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Replica of Ancient Athen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pic>
        <p:nvPicPr>
          <p:cNvPr id="160" name="" descr="Ancient Athens view"/>
          <p:cNvPicPr/>
          <p:nvPr/>
        </p:nvPicPr>
        <p:blipFill>
          <a:blip r:embed="rId1"/>
          <a:stretch/>
        </p:blipFill>
        <p:spPr>
          <a:xfrm>
            <a:off x="152280" y="1746360"/>
            <a:ext cx="8991720" cy="499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Paul Preaches About The True God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 Idolatry of Athens – 17:16-17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 Philosophical Groups: Epicureans and Stoics –v. 18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alk About “The Unknown God” – v. 22-23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 True God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Created all things – v. 24-29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Even their poets said, “We are His Offspring”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Expects People to Seek Him Desperately – v. 27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Expects All Men To “Repent” – v. 30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Will Judge All By Jesus Christ Who Was Raised – v. 31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The Reaction To Paul’s Sermon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ome Mock – v. 3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ome Delay – v. 32  (Want to hear more later)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ome Believe – v. 33-34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0:57:03Z</dcterms:created>
  <dc:creator> Tab Vines</dc:creator>
  <dc:description/>
  <dc:language>en-US</dc:language>
  <cp:lastModifiedBy>Frank D Vines</cp:lastModifiedBy>
  <dcterms:modified xsi:type="dcterms:W3CDTF">2007-03-10T22:19:17Z</dcterms:modified>
  <cp:revision>7</cp:revision>
  <dc:subject/>
  <dc:title>Go Tell The Good News –Part 1</dc:title>
</cp:coreProperties>
</file>